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7294"/>
        <c:axId val="22982187"/>
      </c:barChart>
      <c:catAx>
        <c:axId val="85297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82187"/>
        <c:crosses val="autoZero"/>
        <c:auto val="1"/>
        <c:lblAlgn val="ctr"/>
        <c:lblOffset val="100"/>
        <c:noMultiLvlLbl val="0"/>
      </c:catAx>
      <c:valAx>
        <c:axId val="22982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7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429-F5FC-471C-977F-F4CD3C59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160-7861-434C-8563-4E17BEC3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24A-1D39-436D-AAAB-BF60AA51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9FC-E9AA-409B-98A7-4FA9BD94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EC8-C41E-4C9E-A7E9-A0406255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7C8-59B6-4126-B92C-2D87CD9C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E0D-1656-4A47-8865-75C9B0CC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A86-8270-4ABE-977C-01D0656E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5CE-E569-4AD9-B873-9A9F5F37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913-5004-4FC3-B265-D763D1A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2A2-882C-4A7F-BD3A-E265BC5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55F-DB2A-47FD-944E-0CFA8A0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E36C5-88FD-467F-BBED-A19FB30A2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